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65C-715E-42D6-871C-7DF6918D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387-A4AE-4885-9593-97005E76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F5B-8189-479F-9C90-50024C99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7F0-42E1-495E-84BE-E83FFA0B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3AD-34E1-461E-B002-9366DC7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8C1-5BF2-4560-A649-C76D70FE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3AA-78CC-41C5-B0B7-30B12C0F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784-41A5-4C4C-9F77-AC3140E7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324-D623-4D02-8015-05F4BF1A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00E-E851-4BB8-BA70-079FCB5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FBC-B6DB-43E6-84C3-409CB0DE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7CA-5A1A-4ECF-B242-888A14FD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A682-3E7A-4CFD-B5AF-4E43955E6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epperso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90000" y="6087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5253120"/>
            <a:ext cx="2590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1447920"/>
            <a:ext cx="47242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psic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tretch/>
        </p:blipFill>
        <p:spPr>
          <a:xfrm>
            <a:off x="0" y="533520"/>
            <a:ext cx="3757680" cy="556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7880" y="35812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am, Popsicle, March 9,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epper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8380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k Epperson invented the pops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5964"/>
            </a:gs>
            <a:gs pos="100000">
              <a:srgbClr val="76c2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Epperson invented the popsicle when he was 11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94 in San Francisco Califor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vented the popsicle in 19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vented the popsicle on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invention is popular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Popsic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sicle is a frozen fruit-substance on a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invented by Frank Ep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ade on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ade in 19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hundreds of millions of popsicles are eaten in the United States each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4:52Z</dcterms:created>
  <dc:creator>install</dc:creator>
  <dc:description/>
  <dc:language>en-US</dc:language>
  <cp:lastModifiedBy>install</cp:lastModifiedBy>
  <dcterms:modified xsi:type="dcterms:W3CDTF">2010-03-22T16:07:55Z</dcterms:modified>
  <cp:revision>6</cp:revision>
  <dc:subject/>
  <dc:title>Slide 1</dc:title>
</cp:coreProperties>
</file>